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7847-87A3-482F-93CD-B3A10A82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090-A970-4555-974E-C9A919EC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DBD5B-C88F-43BE-8848-1F0DAC56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DCE7F-821A-49D5-875E-BCFFA930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70C99-6207-4BE6-9550-DB3BB14A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9DDBF-49F9-4FBD-A75D-C2160683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54319-6A14-4ACF-860B-B0C5FC15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BAC31-E932-4506-8286-761075E3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4A0B2-3ADD-45AD-8814-E097EEE4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065D9-2521-4D93-9184-FBA96231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2B51F-8751-40D5-9077-327B6327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B3C-9C06-45B9-999D-CD39BC28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D54F-7847-4234-A174-E4ABD339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77CD-5EBF-4AD4-AF4D-21DB4A89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5E48-2171-42EA-913C-6BC820C5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8CDF-6D7D-4957-9AE1-31AE2C63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4D69-B937-4004-8A5D-DF6F4F80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B322-DC33-4860-A3B6-BFAAE837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8FBF-134D-4F7C-A6AC-D1D75FDC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8985-10B2-451D-B87B-696D3DE1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440C-4B12-41F1-8281-D1B7483A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7460-FC6B-427D-9DE6-1C53A78D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B03B-7B2C-4A2A-BCB0-B072333A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9621-D81F-4D9F-B9A4-B25123D3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E4ED-AF10-4F38-8480-8151586A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7881-5955-4B8D-8CEB-ADCE211E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2A914-7748-4784-8F6A-CC58BE05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34E8E-971C-451C-9D51-4C3B44C4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5C919-A3F5-4088-989C-4AADEEB1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2AFC2-78BF-40E2-9D80-1349885B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20B20-A476-480F-9F09-6F219C8B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5207-FBCC-4DFA-BCEE-D411B8FB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B7260-2853-40C7-AAD1-0B342330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135EA-52A6-470E-9B16-B731B7ED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8E184-D9F7-4E32-AEA9-5765131D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6E723-95AA-46B7-BF32-CAC7E1B8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081F2-2B80-428A-B35F-1D6B33DD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5A84D-D4FD-4734-A0CF-1F9FCA9A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11689-C168-4B46-9BF8-4BE51B54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A6570-7C21-4E69-8B86-4717424C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8E1B4-69A0-4A1C-81A8-8AFA775C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255F9-6ACD-45BF-97D2-F315B719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1AB-72DA-4FE2-B460-A7EDBA79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4B159-38C2-4B5F-9F27-DF1529E5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EF196-64CB-474B-B24B-FDEF84CB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F03D7-AD6F-47BF-A4BC-DF8E8270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85D36-CC60-4BF7-A604-84015284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864E7-C399-4F0F-85DF-978CCEFB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A4F28-B757-4048-8B80-75532F57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C22BB-2C8A-4286-AA1B-E5CB0050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B1022-886D-4CFF-A333-EC74B9F9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5B2FD-B844-4604-A1CF-60E279E8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30A17-1B99-4362-A07E-4CA2CB0A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B205-A830-4004-BB55-3E2BB921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DFF45-F450-4A3E-A93E-13D9DEF3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0D5C8-5AA8-4754-9E8A-2E44C393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AF744-1489-45C0-BF74-99881BDD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628C7-1A1F-4A7C-A099-60AA8B7F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6336A-A255-4463-8E6F-18045EEA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D2926-79F0-496D-82EC-58CD8B9E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530F5-CC5D-4B29-9203-483C0192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16B58-4708-42A7-9B57-40D22628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5D4CC-ACE0-468B-AF8D-A56BA2F5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3AA03-1C57-416E-AB22-0B9B8CA7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8B1A-08E0-4FAC-AC8B-0CAFD736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AC2A7-731E-43E6-BBAD-3D7B6081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9C844-F6CC-41D6-B3BE-4BB98266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D90BA-F959-4694-B029-1B59B50F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B6C9A-EC27-4CB2-850E-F07D9255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284E1-ECC3-4891-A5F3-D86112B1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B8493-E8BE-4251-A5B4-C4EC0C46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447F2-78C0-4541-BD7C-3CDE555D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1E57A-24A3-4BF1-8BDD-9A5415B9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C806A-B5F0-4352-90AB-FE655532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862D2-7000-433C-9899-10870F27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5A6-B90E-4475-B70B-1F707905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D2B74-84E2-426A-BD0D-65B2D355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E9C4E-18B8-4F6E-9240-5ED0F6CC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0736E-4525-46F4-A665-9861DE2A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80722-B400-446D-96C6-0B282899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210EC-7D16-4A9D-B7D1-0F0F4B60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CEC9C-2C3D-4B8C-A823-C9C38E47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27754-4E1C-4161-9812-924FAE59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F9D6C-474A-4A14-956E-5D3D715E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92B69-8AC6-4654-BED0-90B8C157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7FE74-D784-4DA4-91A1-BCA36E16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7F76-D2A0-4FE8-8A68-AD2FA39B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6311F-341D-4280-976C-E59BB794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6626A-D75D-4165-AFB8-C885A59F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AA906-348F-4628-935B-B27DF4CD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648C2-A1B0-45C2-B9DB-96D9A363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93D28-76C0-42C3-9881-E3DF9C30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35166-2522-40E3-9DB7-B4DBD173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7FE5D-B22B-4A74-BD1E-3BEA87F3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3E983-D78D-4FC4-9E5A-015097C2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D9620-78C6-4C5A-AB50-C96C3008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5825B-DA6F-4EEC-869D-786912ED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E00-BC8F-4B34-B9BF-F5260EA2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59020-B0E6-4EC0-98AE-DFE7ECDB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A49E3-5930-4DE1-8BEC-6E4454CC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B5FAD-03B3-486C-80A4-6B8D60CD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2D6AB-DEF6-46BB-9BC0-DB5B5B37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3E6D2-5C6F-4BEE-816A-72069607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442A3-EE0D-40F5-8E5C-929B23E8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43953-CF2F-4CA9-8A74-BBD6A6A9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19EF0-1735-49B5-94EE-374BD02F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DA192-9E99-4DED-A808-05DEE138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7DC85-DE8F-477D-B52E-2A922CC1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FFBF-B536-409B-8F4D-17FB9B29D32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01CD-1E9E-4CD7-8CAC-7D6602C950D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2A6D-1E52-42CB-9ABC-DCDD1976A05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87E1-7CF6-46F1-9205-24B27E4B3C1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3C8C-5EBB-4A2E-8050-C0FFAC8B42C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1F86-67BF-4F22-9601-73DA7BC6962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C73D-4581-4F81-B026-65672017554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D560-B9BF-4777-896C-F0D81201285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A239-EAB9-4AF2-B8F0-7F4C70F5267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0" name="Picture 4" descr="http://lakers.topbuzz.com/gallery/d/1391-1/kobe_bryant_dunk2.jpg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Why is my hair not curly like Kobe’s hair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Why can’t I play basketball like Kobe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8:03:22Z</dcterms:created>
  <dc:creator>LL4</dc:creator>
  <dc:description/>
  <dc:language>en-US</dc:language>
  <cp:lastModifiedBy>LL4</cp:lastModifiedBy>
  <dcterms:modified xsi:type="dcterms:W3CDTF">2009-12-19T19:36:41Z</dcterms:modified>
  <cp:revision>10</cp:revision>
  <dc:subject/>
  <dc:title>Slide 1</dc:title>
</cp:coreProperties>
</file>